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9484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9480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35160" y="0"/>
            <a:ext cx="300996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2640" y="698400"/>
            <a:ext cx="4660920" cy="349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3516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561A-BCE9-47CD-850C-5479FE7D7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64DF-57FD-421F-B90A-DEB30528B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B9B9-DA26-4FCF-BD80-6E7FBE21C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42B7-4B21-4DC6-AC4F-5AC1C3260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A346-5995-4F0E-BBF9-8D7368715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3FCD-2CE3-4689-8B48-85B379D4A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EBBC-E560-4EEA-9B36-43FDD9EFF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7F70-2CEB-44B1-A390-91AAF605C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06C6-0738-453A-9712-13A3E3F81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BACD-910E-41F6-8CBE-60010C9FF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57AD-C5FC-4F63-844C-D70A77C70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DB2C-6BC2-4A26-B702-6DCABFFB7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0C7-F5BF-4084-9AF8-76018B05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07C-570B-4C80-86A7-B16067D1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BFC-189C-4C9A-997C-0C4B1AEC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057-0CF5-41D0-8D24-D41529BA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8E15-4F4E-48CE-850F-6AF79D1D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782E-F51C-4480-9E0F-E8CA19FC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A79B-9368-4DB5-AF2C-A87A873B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6E16-9B75-442E-83C7-85463DB6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C28F-36D8-4C86-9107-63B2E74A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C547-1DFD-4657-908B-CDF1C596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FB3B-1E02-408D-84EC-2E023CCF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FC6-1384-46DD-9331-F6653AB0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0C7B-FA9D-4E03-A783-6BAC76A8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2A94-1F75-453B-A2EC-F9C7278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08E4-D172-4CEF-91D1-692B0918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FC43-B814-4B8F-B5EB-9B30E601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1D46-2276-419F-880D-E23AEB32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A3A7-4E85-4AA6-9B8B-AB4E7DFB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0E544-E65D-4B83-829D-928966F0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C28F-D323-4B1B-921C-884B7D3C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F7ECE-A350-4100-BE7D-5AF7ABC8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97A6-D9AA-4D24-AD59-EE334100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14B-66FE-4AB2-9DB8-30CF89AF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CAA5-42C6-42B4-A608-4EB82DDD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9B52-C5C4-4266-BF7D-2312148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8986B-398B-437E-9E40-7CBD8E8E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373F-C5E9-4AAB-B3D5-A6B994D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785B-554C-4E08-8162-D79A23D5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C40C7-CE93-4556-9518-F5EF7A86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9799-A7C6-45A7-AAA7-B16E029C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627-C0B7-4EF2-9E9D-A4FACA74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8ED-FA0D-4D00-A7ED-389A187D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F2A-E3DF-4B51-BC78-203AD174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BF6-2486-4127-917D-C3493FF5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74D-387C-478F-A2FE-E4922862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7D8-310E-4C64-AD9E-11B6131C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ACA0-9A8E-4ED8-B7FA-CE6BFA782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Manual Input 6"/>
          <p:cNvGrpSpPr/>
          <p:nvPr/>
        </p:nvGrpSpPr>
        <p:grpSpPr>
          <a:xfrm>
            <a:off x="-30240" y="-30240"/>
            <a:ext cx="1047960" cy="6912000"/>
            <a:chOff x="-30240" y="-30240"/>
            <a:chExt cx="1047960" cy="6912000"/>
          </a:xfrm>
        </p:grpSpPr>
        <p:pic>
          <p:nvPicPr>
            <p:cNvPr id="42" name="Flowchart: Manual Input 6" descr=""/>
            <p:cNvPicPr/>
            <p:nvPr/>
          </p:nvPicPr>
          <p:blipFill>
            <a:blip r:embed="rId2"/>
            <a:stretch/>
          </p:blipFill>
          <p:spPr>
            <a:xfrm>
              <a:off x="-30240" y="-30240"/>
              <a:ext cx="104796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5400000">
              <a:off x="-3032280" y="3031920"/>
              <a:ext cx="6858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8895-3722-43FD-9F1C-274DFD0B8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nip Diagonal Corner Rectangle 6"/>
          <p:cNvSpPr/>
          <p:nvPr/>
        </p:nvSpPr>
        <p:spPr>
          <a:xfrm>
            <a:off x="0" y="0"/>
            <a:ext cx="9144000" cy="1295280"/>
          </a:xfrm>
          <a:prstGeom prst="pi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extBox 7" descr=""/>
          <p:cNvPicPr/>
          <p:nvPr/>
        </p:nvPicPr>
        <p:blipFill>
          <a:blip r:embed="rId2"/>
          <a:stretch/>
        </p:blipFill>
        <p:spPr>
          <a:xfrm>
            <a:off x="6095880" y="847800"/>
            <a:ext cx="308448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3124-3C56-49AD-ADC3-C41752DAF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en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Electric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pyrko Research Group. UC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t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ng Woo 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lein tunn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1929, Oscar Kl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unnel barrier can become fully transparent for normal incidence of massless parti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st in graphene was suggested by Katsnelson, Geim and Noveselov in 2006 and verified by Young and Kim in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al Proper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oselov et al. Nature. 438, 197-200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Calibri"/>
              </a:rPr>
              <a:t>Zhang et al. Phys. Lett. 86, 073104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F. Young et al. Nature Phys. 5, 222 (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K. Geim. Science Vol. 324. no. 5934, pp. 1530 – 1534(2009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010 Nobel Prize for Phys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27160" y="2346480"/>
            <a:ext cx="3463920" cy="2097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913320" y="4659480"/>
            <a:ext cx="78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ysicists Konstantin Novoselov (left) and Andre Geim of University of Manche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ight Arrow 3"/>
          <p:cNvSpPr/>
          <p:nvPr/>
        </p:nvSpPr>
        <p:spPr>
          <a:xfrm>
            <a:off x="457200" y="3505320"/>
            <a:ext cx="7620120" cy="2286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619920" y="388620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ory of Graph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. R. Wall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4813920" y="380988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olated atomic layer from graphit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. K. Geim, K. S. Novoseolv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72760" y="2308320"/>
            <a:ext cx="247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sless Dirac equ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Graphe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. W. Semenof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5189040" y="4470480"/>
            <a:ext cx="315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[Fabrication technique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V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pitaxial growth on 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emical method by reducing ag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671040" y="31669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2364480" y="31669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98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4785120" y="31669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5699520" y="31669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5778720" y="2316240"/>
            <a:ext cx="3125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sless Dirac Fermion Prov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. K. Geim, K. S. Novoseolv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. Zhang, P. Ki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e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2176200" y="518148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ulle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ucky ball*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800600" cy="354492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5" name="TextBox 7"/>
          <p:cNvSpPr/>
          <p:nvPr/>
        </p:nvSpPr>
        <p:spPr>
          <a:xfrm>
            <a:off x="3917160" y="51814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notu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5830560" y="518148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aph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616760" y="629136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 Nobel Prize in Chemistry 199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574720" y="58672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0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4422600" y="58672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6156000" y="58672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e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in, mechanically strong, transparent and flexible condu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n be used in touch screen,  light panel, solar cells (ITO) and flexible displ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730680" y="2968560"/>
            <a:ext cx="21826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al Proper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ed Exotic Electrical Behavi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ac Fermions with zero effectiv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-Integer Quantum Hall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oselov, et al. Nature (2005), Zhang et al, Nature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lein Tunn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F. Young and P. Kim, Nature (20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ed top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ntum dot, p-n junction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anoribbons, quantum point conta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agnetotransport near neutrality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al Band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3983040" cy="312408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168" name="Group 22"/>
          <p:cNvGrpSpPr/>
          <p:nvPr/>
        </p:nvGrpSpPr>
        <p:grpSpPr>
          <a:xfrm>
            <a:off x="6477120" y="3276720"/>
            <a:ext cx="838080" cy="1430280"/>
            <a:chOff x="6477120" y="3276720"/>
            <a:chExt cx="838080" cy="1430280"/>
          </a:xfrm>
        </p:grpSpPr>
        <p:grpSp>
          <p:nvGrpSpPr>
            <p:cNvPr id="169" name="Group 8"/>
            <p:cNvGrpSpPr/>
            <p:nvPr/>
          </p:nvGrpSpPr>
          <p:grpSpPr>
            <a:xfrm>
              <a:off x="6514920" y="4038480"/>
              <a:ext cx="762120" cy="668520"/>
              <a:chOff x="6514920" y="4038480"/>
              <a:chExt cx="762120" cy="668520"/>
            </a:xfrm>
          </p:grpSpPr>
          <p:sp>
            <p:nvSpPr>
              <p:cNvPr id="170" name="Oval 9"/>
              <p:cNvSpPr/>
              <p:nvPr/>
            </p:nvSpPr>
            <p:spPr>
              <a:xfrm>
                <a:off x="6514920" y="4537800"/>
                <a:ext cx="762120" cy="169200"/>
              </a:xfrm>
              <a:prstGeom prst="ellipse">
                <a:avLst/>
              </a:prstGeom>
              <a:solidFill>
                <a:srgbClr val="e46c0a"/>
              </a:solidFill>
              <a:ln w="1908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Isosceles Triangle 10"/>
              <p:cNvSpPr/>
              <p:nvPr/>
            </p:nvSpPr>
            <p:spPr>
              <a:xfrm>
                <a:off x="6514920" y="4038480"/>
                <a:ext cx="762120" cy="592560"/>
              </a:xfrm>
              <a:prstGeom prst="triangle">
                <a:avLst>
                  <a:gd name="adj" fmla="val 50000"/>
                </a:avLst>
              </a:prstGeom>
              <a:solidFill>
                <a:srgbClr val="e46c0a"/>
              </a:solidFill>
              <a:ln w="2556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Trapezoid 11"/>
              <p:cNvSpPr/>
              <p:nvPr/>
            </p:nvSpPr>
            <p:spPr>
              <a:xfrm>
                <a:off x="6514920" y="4478400"/>
                <a:ext cx="762120" cy="16920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3" name="Group 13"/>
            <p:cNvGrpSpPr/>
            <p:nvPr/>
          </p:nvGrpSpPr>
          <p:grpSpPr>
            <a:xfrm>
              <a:off x="6477120" y="3276720"/>
              <a:ext cx="838080" cy="744480"/>
              <a:chOff x="6477120" y="3276720"/>
              <a:chExt cx="838080" cy="744480"/>
            </a:xfrm>
          </p:grpSpPr>
          <p:sp>
            <p:nvSpPr>
              <p:cNvPr id="174" name="Isosceles Triangle 14"/>
              <p:cNvSpPr/>
              <p:nvPr/>
            </p:nvSpPr>
            <p:spPr>
              <a:xfrm rot="10800000">
                <a:off x="6477120" y="3369240"/>
                <a:ext cx="838080" cy="65196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Oval 15"/>
              <p:cNvSpPr/>
              <p:nvPr/>
            </p:nvSpPr>
            <p:spPr>
              <a:xfrm>
                <a:off x="6477120" y="3276720"/>
                <a:ext cx="838080" cy="186120"/>
              </a:xfrm>
              <a:prstGeom prst="ellipse">
                <a:avLst/>
              </a:prstGeom>
              <a:solidFill>
                <a:srgbClr val="b9cde5"/>
              </a:solidFill>
              <a:ln w="93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6" name="Oval 23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7" name="Straight Arrow Connector 25"/>
          <p:cNvCxnSpPr>
            <a:stCxn id="176" idx="6"/>
          </p:cNvCxnSpPr>
          <p:nvPr/>
        </p:nvCxnSpPr>
        <p:spPr>
          <a:xfrm flipV="1">
            <a:off x="4419720" y="4037760"/>
            <a:ext cx="1753200" cy="34380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78" name="Straight Arrow Connector 3"/>
          <p:cNvCxnSpPr/>
          <p:nvPr/>
        </p:nvCxnSpPr>
        <p:spPr>
          <a:xfrm flipH="1" flipV="1">
            <a:off x="7219440" y="4059000"/>
            <a:ext cx="324720" cy="13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TextBox 4"/>
          <p:cNvSpPr/>
          <p:nvPr/>
        </p:nvSpPr>
        <p:spPr>
          <a:xfrm>
            <a:off x="7623000" y="4114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ac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Straight Arrow Connector 18"/>
          <p:cNvCxnSpPr/>
          <p:nvPr/>
        </p:nvCxnSpPr>
        <p:spPr>
          <a:xfrm flipV="1">
            <a:off x="1360080" y="4369680"/>
            <a:ext cx="1002600" cy="337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TextBox 21"/>
          <p:cNvSpPr/>
          <p:nvPr/>
        </p:nvSpPr>
        <p:spPr>
          <a:xfrm>
            <a:off x="199080" y="4734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llouin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Straight Arrow Connector 24"/>
          <p:cNvCxnSpPr/>
          <p:nvPr/>
        </p:nvCxnSpPr>
        <p:spPr>
          <a:xfrm flipH="1">
            <a:off x="7276320" y="3370320"/>
            <a:ext cx="353160" cy="194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TextBox 26"/>
          <p:cNvSpPr/>
          <p:nvPr/>
        </p:nvSpPr>
        <p:spPr>
          <a:xfrm>
            <a:off x="7645680" y="31352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ac C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al Proper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Band Struc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2495520" y="2514600"/>
            <a:ext cx="685800" cy="914040"/>
            <a:chOff x="2495520" y="2514600"/>
            <a:chExt cx="685800" cy="914040"/>
          </a:xfrm>
        </p:grpSpPr>
        <p:sp>
          <p:nvSpPr>
            <p:cNvPr id="187" name="Freeform 10"/>
            <p:cNvSpPr/>
            <p:nvPr/>
          </p:nvSpPr>
          <p:spPr>
            <a:xfrm>
              <a:off x="2495520" y="2514600"/>
              <a:ext cx="642960" cy="384840"/>
            </a:xfrm>
            <a:prstGeom prst="pie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1"/>
            <p:cNvSpPr/>
            <p:nvPr/>
          </p:nvSpPr>
          <p:spPr>
            <a:xfrm rot="10800000">
              <a:off x="2538360" y="3043800"/>
              <a:ext cx="642960" cy="384840"/>
            </a:xfrm>
            <a:prstGeom prst="pie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89" name="Straight Arrow Connector 14"/>
          <p:cNvCxnSpPr/>
          <p:nvPr/>
        </p:nvCxnSpPr>
        <p:spPr>
          <a:xfrm flipV="1">
            <a:off x="2189520" y="2285280"/>
            <a:ext cx="2520" cy="12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90" name="Group 30"/>
          <p:cNvGrpSpPr/>
          <p:nvPr/>
        </p:nvGrpSpPr>
        <p:grpSpPr>
          <a:xfrm>
            <a:off x="2305080" y="5351400"/>
            <a:ext cx="762120" cy="668520"/>
            <a:chOff x="2305080" y="5351400"/>
            <a:chExt cx="762120" cy="668520"/>
          </a:xfrm>
        </p:grpSpPr>
        <p:sp>
          <p:nvSpPr>
            <p:cNvPr id="191" name="Oval 29"/>
            <p:cNvSpPr/>
            <p:nvPr/>
          </p:nvSpPr>
          <p:spPr>
            <a:xfrm>
              <a:off x="2305080" y="5850720"/>
              <a:ext cx="762120" cy="169200"/>
            </a:xfrm>
            <a:prstGeom prst="ellipse">
              <a:avLst/>
            </a:prstGeom>
            <a:solidFill>
              <a:srgbClr val="e46c0a"/>
            </a:solidFill>
            <a:ln w="190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Isosceles Triangle 28"/>
            <p:cNvSpPr/>
            <p:nvPr/>
          </p:nvSpPr>
          <p:spPr>
            <a:xfrm>
              <a:off x="2305080" y="5351400"/>
              <a:ext cx="762120" cy="592560"/>
            </a:xfrm>
            <a:prstGeom prst="triangle">
              <a:avLst>
                <a:gd name="adj" fmla="val 50000"/>
              </a:avLst>
            </a:prstGeom>
            <a:solidFill>
              <a:srgbClr val="e46c0a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rapezoid 27"/>
            <p:cNvSpPr/>
            <p:nvPr/>
          </p:nvSpPr>
          <p:spPr>
            <a:xfrm>
              <a:off x="2305080" y="5791320"/>
              <a:ext cx="762120" cy="169200"/>
            </a:xfrm>
            <a:prstGeom prst="pi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Parallelogram 25"/>
          <p:cNvSpPr/>
          <p:nvPr/>
        </p:nvSpPr>
        <p:spPr>
          <a:xfrm flipH="1">
            <a:off x="1809720" y="5181480"/>
            <a:ext cx="1752480" cy="381240"/>
          </a:xfrm>
          <a:prstGeom prst="parallelogram">
            <a:avLst>
              <a:gd name="adj" fmla="val 90084"/>
            </a:avLst>
          </a:prstGeom>
          <a:noFill/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18"/>
          <p:cNvGrpSpPr/>
          <p:nvPr/>
        </p:nvGrpSpPr>
        <p:grpSpPr>
          <a:xfrm>
            <a:off x="2266920" y="4589640"/>
            <a:ext cx="838080" cy="744480"/>
            <a:chOff x="2266920" y="4589640"/>
            <a:chExt cx="838080" cy="744480"/>
          </a:xfrm>
        </p:grpSpPr>
        <p:sp>
          <p:nvSpPr>
            <p:cNvPr id="196" name="Isosceles Triangle 15"/>
            <p:cNvSpPr/>
            <p:nvPr/>
          </p:nvSpPr>
          <p:spPr>
            <a:xfrm rot="10800000">
              <a:off x="2266920" y="4682520"/>
              <a:ext cx="838080" cy="6516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Oval 17"/>
            <p:cNvSpPr/>
            <p:nvPr/>
          </p:nvSpPr>
          <p:spPr>
            <a:xfrm>
              <a:off x="2266920" y="4589640"/>
              <a:ext cx="838080" cy="186120"/>
            </a:xfrm>
            <a:prstGeom prst="ellipse">
              <a:avLst/>
            </a:prstGeom>
            <a:solidFill>
              <a:srgbClr val="b9cde5"/>
            </a:soli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98" name="Straight Arrow Connector 32"/>
          <p:cNvCxnSpPr/>
          <p:nvPr/>
        </p:nvCxnSpPr>
        <p:spPr>
          <a:xfrm>
            <a:off x="2342880" y="3657600"/>
            <a:ext cx="11437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Box 33"/>
          <p:cNvSpPr/>
          <p:nvPr/>
        </p:nvSpPr>
        <p:spPr>
          <a:xfrm>
            <a:off x="1365120" y="27432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4"/>
          <p:cNvSpPr/>
          <p:nvPr/>
        </p:nvSpPr>
        <p:spPr>
          <a:xfrm>
            <a:off x="2273400" y="373392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mentu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44"/>
          <p:cNvGrpSpPr/>
          <p:nvPr/>
        </p:nvGrpSpPr>
        <p:grpSpPr>
          <a:xfrm>
            <a:off x="2684880" y="5333760"/>
            <a:ext cx="611280" cy="228960"/>
            <a:chOff x="2684880" y="5333760"/>
            <a:chExt cx="611280" cy="228960"/>
          </a:xfrm>
        </p:grpSpPr>
        <p:cxnSp>
          <p:nvCxnSpPr>
            <p:cNvPr id="202" name="Straight Arrow Connector 35"/>
            <p:cNvCxnSpPr/>
            <p:nvPr/>
          </p:nvCxnSpPr>
          <p:spPr>
            <a:xfrm>
              <a:off x="2685960" y="5334120"/>
              <a:ext cx="61056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Straight Arrow Connector 38"/>
            <p:cNvCxnSpPr/>
            <p:nvPr/>
          </p:nvCxnSpPr>
          <p:spPr>
            <a:xfrm>
              <a:off x="2684880" y="5333760"/>
              <a:ext cx="267120" cy="22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04" name="Straight Arrow Connector 42"/>
          <p:cNvCxnSpPr/>
          <p:nvPr/>
        </p:nvCxnSpPr>
        <p:spPr>
          <a:xfrm flipV="1">
            <a:off x="2722680" y="434448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45"/>
          <p:cNvSpPr/>
          <p:nvPr/>
        </p:nvSpPr>
        <p:spPr>
          <a:xfrm>
            <a:off x="2728080" y="44197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46"/>
          <p:cNvSpPr/>
          <p:nvPr/>
        </p:nvSpPr>
        <p:spPr>
          <a:xfrm>
            <a:off x="2881800" y="53308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ment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47"/>
          <p:cNvSpPr/>
          <p:nvPr/>
        </p:nvSpPr>
        <p:spPr>
          <a:xfrm>
            <a:off x="2958480" y="27432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nd G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ight Arrow 48"/>
          <p:cNvSpPr/>
          <p:nvPr/>
        </p:nvSpPr>
        <p:spPr>
          <a:xfrm>
            <a:off x="4400640" y="2819520"/>
            <a:ext cx="990360" cy="45720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ight Arrow 49"/>
          <p:cNvSpPr/>
          <p:nvPr/>
        </p:nvSpPr>
        <p:spPr>
          <a:xfrm>
            <a:off x="4324320" y="4952880"/>
            <a:ext cx="990720" cy="457200"/>
          </a:xfrm>
          <a:prstGeom prst="righ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50"/>
          <p:cNvSpPr/>
          <p:nvPr/>
        </p:nvSpPr>
        <p:spPr>
          <a:xfrm>
            <a:off x="5634360" y="25909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ectrons in usual soli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Schrodinger equ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51"/>
          <p:cNvSpPr/>
          <p:nvPr/>
        </p:nvSpPr>
        <p:spPr>
          <a:xfrm>
            <a:off x="5632560" y="46483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ectrons in graph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Dirac equ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5703840" y="3276720"/>
            <a:ext cx="1219320" cy="1038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5703840" y="5332320"/>
            <a:ext cx="1447920" cy="690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al Proper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l Eff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ic field developed across two faces of conductor in the direction j × H when a current j flows across a magnetic field 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ntum Hall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overed in 19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x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ν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h 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ν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n intege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low temperature and strong magnetic fi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-integer quantum Hall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xy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4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+ ½)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h  (N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n intege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room temperature  (300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182280" y="61070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Novoselov et al,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5943600" y="3683160"/>
            <a:ext cx="2819520" cy="233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al Proper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22:04:53Z</dcterms:created>
  <dc:creator>Jongwoo</dc:creator>
  <dc:description/>
  <dc:language>en-US</dc:language>
  <cp:lastModifiedBy>Veronica</cp:lastModifiedBy>
  <dcterms:modified xsi:type="dcterms:W3CDTF">2010-10-23T20:04:02Z</dcterms:modified>
  <cp:revision>344</cp:revision>
  <dc:subject/>
  <dc:title>Variable-temperature micromagnetic study of epitaxially grown MnAs films on GaAs(001)</dc:title>
</cp:coreProperties>
</file>